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132D-B666-472A-BA6B-43882ECDF9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8A48-8D62-4669-9029-F01E92D4E0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91FF-7EAE-414B-B114-6660890288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arest continent to Antarctica 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Cape of Good Hope the distance is about 5,000 k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ape Horn the distance is about 4,000 k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n’t matter where you go, travel away from Antarctica is always to the North! A trick ques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h bigger in the west – that land is a bit lower but the snow is a bit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x 2 = 28 + ½ 14 = 7 total 35 with 9 ’s! 35 bill sq k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0488-DA08-4979-876B-C485D2EDB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03E5-3DF7-4974-BD72-E58CF97A5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5848-69B1-4BE8-8530-8F840B7BD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F8FE-9D77-41AF-A137-C40A29EAD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EFB6-9E4D-4230-A3AE-9AEC008365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8DCC-10F0-4185-9521-DCC7766E41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3007-639F-48DC-9012-0A4C5C10E5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C9D3-1B9E-4B36-9ADE-3BB9A56893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D59B-9CC5-4093-A999-C7034CB5DC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121B-BC75-4DEF-9D90-1566013834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C9DE6-9F36-42DD-A96F-A4720AB1D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A459-8E6B-4A23-87EE-0E57391D8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2667-289D-4218-9942-1D30D3CABE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D045-01C8-4757-ABA8-E8C3F05A29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D02B-EF12-4C51-B245-2F6EA3979E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9DC7-4136-49AF-8B71-7D288C4A9B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D351-EE66-46BF-B7C1-99AC5DD087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7BAD-588B-4552-9E22-A180A2691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444C-C3E2-4293-9008-D0633E995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6582-8A20-4B61-BBE8-F5595FC16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C64B-C435-4222-99A6-F3134E731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E438-B886-4135-8E9C-9BB1E766E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C8FA-F60E-4069-B268-5D4A0258B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4A67-3B05-4CF6-98E5-3C7D5D633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5949720"/>
            <a:ext cx="86364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8605-461C-4AA0-848D-07CA71242E61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48BD-B2AA-448F-8DD5-E209C9F616D0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ntarctica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DD2C-0D7D-4E9B-A981-240A1CE569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45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The next bit is about what has happened to Antarctica over tim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71640" y="4221000"/>
            <a:ext cx="7488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So just to remind those who have done it before – and for those who have never come across it…..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DE9B-8228-4C53-BD7F-D33AF89173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47192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56120" y="102960"/>
            <a:ext cx="4836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Structure of the Earth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26920" y="907920"/>
            <a:ext cx="4505760" cy="1229760"/>
            <a:chOff x="826920" y="907920"/>
            <a:chExt cx="4505760" cy="1229760"/>
          </a:xfrm>
        </p:grpSpPr>
        <p:sp>
          <p:nvSpPr>
            <p:cNvPr id="198" name=""/>
            <p:cNvSpPr/>
            <p:nvPr/>
          </p:nvSpPr>
          <p:spPr>
            <a:xfrm rot="1084200">
              <a:off x="3255120" y="1517040"/>
              <a:ext cx="2081520" cy="304920"/>
            </a:xfrm>
            <a:prstGeom prst="rightArrow">
              <a:avLst>
                <a:gd name="adj1" fmla="val 50000"/>
                <a:gd name="adj2" fmla="val 170661"/>
              </a:avLst>
            </a:prstGeom>
            <a:solidFill>
              <a:srgbClr val="cc6600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6920" y="907920"/>
              <a:ext cx="2775240" cy="1191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thin crust - 10-100km thick and not very dens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0920" y="2276640"/>
            <a:ext cx="4937760" cy="1191240"/>
            <a:chOff x="250920" y="2276640"/>
            <a:chExt cx="4937760" cy="1191240"/>
          </a:xfrm>
        </p:grpSpPr>
        <p:sp>
          <p:nvSpPr>
            <p:cNvPr id="201" name=""/>
            <p:cNvSpPr/>
            <p:nvPr/>
          </p:nvSpPr>
          <p:spPr>
            <a:xfrm rot="21440400">
              <a:off x="3209760" y="2428920"/>
              <a:ext cx="1972800" cy="304920"/>
            </a:xfrm>
            <a:prstGeom prst="rightArrow">
              <a:avLst>
                <a:gd name="adj1" fmla="val 50000"/>
                <a:gd name="adj2" fmla="val 161747"/>
              </a:avLst>
            </a:prstGeom>
            <a:solidFill>
              <a:srgbClr val="ff9900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0920" y="2276640"/>
              <a:ext cx="3369960" cy="1191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mantle – extends almost halfway to the centre, hot and dens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9280" y="3331080"/>
            <a:ext cx="5466240" cy="2536560"/>
            <a:chOff x="179280" y="3331080"/>
            <a:chExt cx="5466240" cy="2536560"/>
          </a:xfrm>
        </p:grpSpPr>
        <p:sp>
          <p:nvSpPr>
            <p:cNvPr id="204" name=""/>
            <p:cNvSpPr/>
            <p:nvPr/>
          </p:nvSpPr>
          <p:spPr>
            <a:xfrm rot="20285400">
              <a:off x="3541320" y="3715920"/>
              <a:ext cx="2123640" cy="304920"/>
            </a:xfrm>
            <a:prstGeom prst="rightArrow">
              <a:avLst>
                <a:gd name="adj1" fmla="val 50000"/>
                <a:gd name="adj2" fmla="val 174115"/>
              </a:avLst>
            </a:prstGeom>
            <a:solidFill>
              <a:srgbClr val="fee97e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9280" y="3944880"/>
              <a:ext cx="3893400" cy="1922760"/>
            </a:xfrm>
            <a:prstGeom prst="rect">
              <a:avLst/>
            </a:prstGeom>
            <a:solidFill>
              <a:srgbClr val="fee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core – made of molten nickel and iron.  Outer part is liquid and inner part is solid.  Gets hot due to radioactive decay.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7200" y="60357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99"/>
                </a:solidFill>
                <a:latin typeface="Comic Sans MS"/>
              </a:rPr>
              <a:t>The Earth is believed to be 4500 million years ol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DBFA-EA59-45A4-84AC-EB1A762FA1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Plates and plate boundarie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earth's crust is                                                 broken up into piec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se pieces are called                                           plat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eat rising and falling                                                            inside the mantle creates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convection currents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convection currents move the plat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movement of the plates, and the activity inside the earth, is called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late tectonics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point where two plates meet is called a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late boundary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5076720" y="1125360"/>
            <a:ext cx="379116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40FC-F3BF-4106-BF1D-6E4BB59C94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19280" y="333360"/>
            <a:ext cx="770544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1966-488C-4F91-A128-E29C699FE5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So where did Antarctica fit into all this movement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71640" y="3573000"/>
            <a:ext cx="7704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Comic Sans MS"/>
              </a:rPr>
              <a:t>OR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Comic Sans MS"/>
              </a:rPr>
              <a:t>How Gondwana became the world we know today 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65DC1-B959-446F-BBCD-658D45666D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4673520" cy="4673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651640" y="18900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924360" y="347328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788000" y="162864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7291800">
            <a:off x="6081480" y="316512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4313-ACBE-43C4-8D64-E6BBC09FF4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219640" y="3333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916360" y="357336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284720" y="162864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7459800">
            <a:off x="5254560" y="33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581360"/>
            <a:ext cx="2089080" cy="1295640"/>
          </a:xfrm>
          <a:prstGeom prst="wedgeRoundRectCallout">
            <a:avLst>
              <a:gd name="adj1" fmla="val 34347"/>
              <a:gd name="adj2" fmla="val -83944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re is a link on the wiki to an animated version of thi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385C-DF46-4151-B3CC-90FFF80079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67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Antarctica is the world’s last great wildernes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ntarctica is the world’s last great wildernes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a continent almost entirely buried by snow and ic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so hostile and remote that it has no permanent resident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urrounded by the Southern Ocean, Antarctica covers nearly 9% of the Earth’s lan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40360" y="4581000"/>
            <a:ext cx="475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25% bigger than Europe, making it the fifth largest continen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also the least polluted of all the continent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3924360" y="1125360"/>
            <a:ext cx="5038560" cy="3333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4D77-CF72-43E9-A29C-E15854D940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321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ntarctica is divided into two main areas: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24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East Antarctica (sometimes called Greater Antarctica), and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24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West Antarctica (Lesser Antarctica)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y are separated by the Transantarctic Mountains that stretch 3,540 kilometres across the continen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4360" y="4581000"/>
            <a:ext cx="46083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est Antarctica is the smallest of the two and has a peninsula that sticks out nearly 1,000 towards the southern tip of South America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4500720" y="731880"/>
            <a:ext cx="4464000" cy="3900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2270-4BDD-4CAE-906A-1276968644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31680"/>
            <a:ext cx="8713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403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bout 99% of Antarctica is covered with a vast ice sheet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It is the largest single mass of ice on Earth and is bigger than the whole of Europe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t least 3 million years old (and as much as 30 million years old in places)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ice sheet averages 2,450 metres deep and holds about 70% of the world’s fresh water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average altitude is about 2,300 metres above sea level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Vinson Massif is Antarctica’s highest point, rising to a height of 4,897 metre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7640" y="4292280"/>
            <a:ext cx="4465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But in places, the bottom of the ice can be as much as 3,000m below sea level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o they weren’t filled with ice, large parts of Antarctica would be under the sea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4427640" y="836640"/>
            <a:ext cx="4392360" cy="3352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3874-4BE4-40D3-96A9-3F684BD4B4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we going to do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ere is it? What is it? Why it is like tha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goes on there? How did that come about? What are the pressures on i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about Antarctica and Global warming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about visiting the place? Would you like to go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have you found out about Antarctica?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DCCA-1A5D-412F-B818-803F032AF2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31680"/>
            <a:ext cx="8713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4321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ntarctica’s ice sheet is constantly on the move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Huge rivers of ice known as glaciers are pulled slowly by gravity from the interior towards the sea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long the way, the ice cracks, breaks and is ruptured by underlying rock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Crevasses up to hundreds of metres deep can form on the surface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On reaching the sea, the glaciers spill out over the water’s surface and create gigantic floating blocks of ice called ice shelve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largest, the Ross Ice Shelf, is the size of Franc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2920" y="3500280"/>
            <a:ext cx="4249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ometimes pieces of an ice shelf break off to form icebergs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Beyond the ice shelves, much of the surrounding ocean freezes over during the winter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With this extra winter sea-ice, Antarctica almost doubles in siz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4643280" y="692280"/>
            <a:ext cx="4256280" cy="2793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BF40-29AD-49F7-A642-76790C6B1B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Do they have seasons on Antarctica or is always just cold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4724280"/>
            <a:ext cx="864216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efore I get you to count icy squares (1 mill km</a:t>
            </a:r>
            <a:r>
              <a:rPr b="0" lang="en-US" sz="28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each), I think we need to discuss something – do you notice anything odd here?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an you think what is going on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2524320" cy="2524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187280" y="1484280"/>
            <a:ext cx="2524320" cy="25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474920" y="4149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rc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03640" y="4149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eptemb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65E2-5276-471B-AAFF-647BA132CA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ostly you will have come across Antarctica on a map like thi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760" y="1263600"/>
            <a:ext cx="893448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52DF-A88A-40F5-BC8E-2EB5482C82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omic Sans MS"/>
              </a:rPr>
              <a:t>How many UKs could fit into Antarctica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048280" cy="5048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4000" y="4581360"/>
            <a:ext cx="1800000" cy="648000"/>
          </a:xfrm>
          <a:prstGeom prst="cloudCallout">
            <a:avLst>
              <a:gd name="adj1" fmla="val 116050"/>
              <a:gd name="adj2" fmla="val -3994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Guess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B53B-E08A-4D78-97A6-6EB8D44F7C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w can we do it properly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f we know the area of each location (UK and Antarctica),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 can divide Antarctica area by the UK are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Antarctica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13,829,430 km</a:t>
            </a:r>
            <a:r>
              <a:rPr b="0" lang="en-US" sz="32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UK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224,820 km</a:t>
            </a:r>
            <a:r>
              <a:rPr b="0" lang="en-US" sz="32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ow 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alculat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about how many countries the size of the UK would fit into Antarctica what is i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9EFD-BD27-4618-960A-8D5D046270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hat about the other parts of the world?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566100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ich is it closest to it in size? Which is it just less than double? Can you put them in order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7128000" cy="46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7E93-CD2C-496E-9F44-A6CF4A3BB0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Upside down worl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67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is the nearest continent to Antarctica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pproximately how far is it from 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the South Pole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to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Cape of Good Hope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pe Horn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which compass direction do you move from Antarctica to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outh America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ustralia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3851280" y="1197000"/>
            <a:ext cx="5037120" cy="503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6768-49C3-4961-9D1E-CA9F668DEE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79640" y="2378160"/>
            <a:ext cx="7157880" cy="4435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47640" y="182520"/>
            <a:ext cx="7525080" cy="2525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9280" y="2276640"/>
            <a:ext cx="2016360" cy="4105080"/>
          </a:xfrm>
          <a:prstGeom prst="wedgeRoundRectCallout">
            <a:avLst>
              <a:gd name="adj1" fmla="val 80708"/>
              <a:gd name="adj2" fmla="val -16935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f you have the worksheet, label i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f you do not have the worksheet, you will need to flick back and forward for this on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83A5-B7D1-44F5-8E98-67FC1D33E4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question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1. Can you spot three differences between the ice sheets over West Antarctica and East Antarctica? Think about their size, the heights of the ice sheets and the land below the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2. If Antarctica’s area is about 14,000,000 square kilometres and the average ice sheet thickness is 2,450 metres, can you calculate the approximate volume of the ice in Antarctica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3. What do you think would happen to the land buried under the ice if the ice sheets melted? Why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21DD-36B0-42FF-AFFB-038442B966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8:48:11Z</dcterms:created>
  <dc:creator>Lindy</dc:creator>
  <dc:description/>
  <dc:language>en-US</dc:language>
  <cp:lastModifiedBy>Lindy</cp:lastModifiedBy>
  <dcterms:modified xsi:type="dcterms:W3CDTF">2009-04-19T13:12:14Z</dcterms:modified>
  <cp:revision>8</cp:revision>
  <dc:subject/>
  <dc:title>Antarctica</dc:title>
</cp:coreProperties>
</file>